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8141-A2AB-41D7-90DB-6FC61442E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121A-2AB5-4C65-9C59-C046C1DF9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D604-A076-4CD7-9BC0-83A45DD99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BD37-99ED-4495-A787-6099AF71F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53E5-0060-40DE-A0C9-514AF7D4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C68A-9EBC-4FEA-9B20-1ABBEA2D6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9DC7-34A6-4FEC-8EDD-E0D48626A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FE7F-408E-4598-97E3-4868ADA4C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0C1F-E5CF-4D59-B6E4-530331AF6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16A2-5CB0-4BC2-A9BF-FF9343B4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B67A-5BFA-4DF9-8D1E-0ED1677A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C828-89B3-4C63-8D05-D3E9F53D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C4FA9-BEF4-4DFD-80F3-892EC43F5ABE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VIRTUAL CLASSRO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A – PO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11 - 20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out our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year we cooperated with Piedmont Middle School from Monroe, N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r project was about exchanging snail-post letters between our students who were divided into pairs at the beginning of the proj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u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had a possibility to get to know their American pe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learnt about American culture and way of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some of them they were the first real letters they receiv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y students could improve their Englis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could realized that their English is good enough to correspo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project was not time consuming otherwise I could not do it with that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had a lot of fun doing i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nu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fortunately the last American package with letters got los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not continue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this proj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ext year – I hope our students will exchange emails or letters individu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ud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 what they liked about our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e had great fun wile doing this project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e made friends with children from </a:t>
            </a:r>
            <a:r>
              <a:rPr b="0" i="1" lang="pl-PL" sz="3200" spc="-1" strike="noStrike">
                <a:solidFill>
                  <a:srgbClr val="000000"/>
                </a:solidFill>
                <a:latin typeface="Times New Roman"/>
              </a:rPr>
              <a:t>anoth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untry and </a:t>
            </a:r>
            <a:r>
              <a:rPr b="0" i="1" lang="pl-PL" sz="3200" spc="-1" strike="noStrike">
                <a:solidFill>
                  <a:srgbClr val="000000"/>
                </a:solidFill>
                <a:latin typeface="Times New Roman"/>
              </a:rPr>
              <a:t>anoth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tinent”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e could improve English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e could use English in practic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8487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ud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 what (in their opinion) should be improved in the next project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fortunately not everything is possi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57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xchanging larger amount of let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57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orter time of „traveling” of let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57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hatting on the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57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eting with American friends e.g.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ris </a:t>
            </a:r>
            <a:r>
              <a:rPr b="0" i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gna</cp:lastModifiedBy>
  <dcterms:modified xsi:type="dcterms:W3CDTF">2012-05-25T19:07:07Z</dcterms:modified>
  <cp:revision>11</cp:revision>
  <dc:subject/>
  <dc:title>PowerPoint Presentation</dc:title>
</cp:coreProperties>
</file>